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F5C-C433-4259-81B5-71F7EFDE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6AC-3B72-430D-82F4-C60EA8A6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C1F-B1E0-4FFF-AD77-86F646EA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B09-925A-4865-B314-3A91F7F5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554D-70E6-453A-85C9-63883161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2923-1D16-44A5-8260-5D1D59B0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957F-840C-4EDA-9ED8-C459B686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5398-784E-4ACB-B3EF-4BA2E20C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2224-F6D5-4C1A-88E7-C669D2C3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50B2-D697-431C-95DC-2AC0C4E4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CB95-DFE2-4D3E-8B1F-279540D7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FB8-E584-432C-9327-C2FABE0E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8435-2D4A-4F79-92AB-6E4A5781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7633-AC42-4E26-B1EE-F4CD3C8B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479D-F49B-4175-90A6-51F8FA5F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6C3F-D2F5-4095-BBB2-1FE9E64B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18B2-1C80-4BA5-B64C-619263D2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3F6-318F-43DC-A156-FFF1C3D3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F45-3F6F-44AD-AA19-AAE8BE92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7D4-0043-4C62-85A0-1A6084E3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B08-E195-451F-BD6A-4E03B16B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70D-7D10-4199-BA58-DFAD379D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3701-9BE1-43C8-A3D6-F4FC5A3E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A84-29FF-4D38-BA86-A4850044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AD78-0825-4F48-8C73-DFF327A329D0}" type="datetime">
              <a:rPr b="0" lang="en-US" sz="12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5328-EB9F-4BA2-B0DE-EA38E539186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7C2D-DC76-4EDD-9F2B-0134EC5CC5EF}" type="datetime">
              <a:rPr b="0" lang="en-US" sz="12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32D4-1A58-483B-92C1-E34B10720C5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4360" y="838080"/>
            <a:ext cx="7848360" cy="206892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Rzymski system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zapisywania liczb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6408720" cy="3086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6732720" y="2997360"/>
            <a:ext cx="2297160" cy="316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88F-8C08-41C1-B08F-3F0D43C04D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Zapisz w systemie rzymskim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11280" y="2205000"/>
            <a:ext cx="4043520" cy="226080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1999 =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118-9E51-442F-8BCF-F9C6C559EC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999 = MCMXCIX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iczba rzymska składa się z wydzielonych fragmentów, które są równoznaczne z cyframi arabskimi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 naszym przykładzie takimi "cyfrowymi fragmentami" były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M - 1000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CM - 900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XC - 90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IX - 9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80D-4D73-4B70-8D80-38C9E6E807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50920" y="333360"/>
            <a:ext cx="8642160" cy="126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akie są inne zasady obowiązujące przy tworzeniu liczb systemem rzymski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1628640"/>
            <a:ext cx="7315200" cy="11178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ok siebie można zapisać tylko trzy jednakowe znaki I, X, C, 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2852640"/>
            <a:ext cx="6858000" cy="111780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Nie wolno powtarzać obok siebie znaków V, L, 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9640" y="4076640"/>
            <a:ext cx="6858000" cy="1496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ie może być dwóch znaków oznaczających liczby mniejsze bezpośrednio przed znakiem oznaczającym liczbę większą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76360" y="5445000"/>
            <a:ext cx="6858000" cy="82548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Verdana"/>
              </a:rPr>
              <a:t>Znakami poprzedzającymi znak oznaczający większą liczbę mogą być tylko znaki: I, X, C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57D-E531-432D-AA3E-D4E046F5CF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50920" y="549360"/>
            <a:ext cx="851220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Zapisz liczby w systemie rzymski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59280" y="2421000"/>
            <a:ext cx="190476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78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00600" y="2438280"/>
            <a:ext cx="205740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XXVI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3200400"/>
            <a:ext cx="14479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94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24280" y="3200400"/>
            <a:ext cx="16765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CI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95480" y="3962520"/>
            <a:ext cx="213372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116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3962520"/>
            <a:ext cx="152388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XV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59280" y="4797360"/>
            <a:ext cx="1676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65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16360" y="4797360"/>
            <a:ext cx="2210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DLX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87640" y="5661000"/>
            <a:ext cx="182880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999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5661000"/>
            <a:ext cx="2880000" cy="825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MXCIX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90D-A0E6-4B60-8732-A78FAA337A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95280" y="476280"/>
            <a:ext cx="836784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Odczytaj liczby zapisane w systemie rzymskim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0400" y="251460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LV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16360" y="32130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XXIX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4120" y="32004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7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38862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CXLVI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4120" y="38862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4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66880" y="45720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DXCIV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86400" y="457200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9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52578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MM 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52578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3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0C7-A8B1-42D4-B0DD-1106127F76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4000" y="609480"/>
            <a:ext cx="836280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Gdzie dzisiaj używa się zapisu liczb systemem rzymskim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92360" y="2133720"/>
            <a:ext cx="655308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zy zapisywaniu dat i wiek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2666880"/>
            <a:ext cx="7238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1  XI 19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26920" y="3500280"/>
            <a:ext cx="731520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zy numeracji ważnych rocz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4038480"/>
            <a:ext cx="5715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XV Konkurs Chopinows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32000" y="4941720"/>
            <a:ext cx="723888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zy imionach kolejnych król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5562720"/>
            <a:ext cx="6096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Zygmunt III Wa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C65-488E-4073-A707-7C15DDC2C1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0920" y="533520"/>
            <a:ext cx="858816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Gdzie jeszcze używa się zapisu liczb systemem rzymskim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2209680"/>
            <a:ext cx="793116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Do oznaczania godzin na zegar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63640" y="3357720"/>
            <a:ext cx="579132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rzy numeracji rozdział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87280" y="4365720"/>
            <a:ext cx="640080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a tablicach pamiątkow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42920" y="5562720"/>
            <a:ext cx="7777080" cy="67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 inskrypcjach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napis wyryty w twardym materiale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BAA-9134-4B86-89C5-B9D668CB2A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UWAG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Za pomocą dostępnych znaków można zapisać liczby od 1 do 3999, gdyż nie istnieją znaki dla liczb większych od 1000.   Większe liczby można zapisywać poprzez umieszczenie ich między dwoma znakami |, co oznacza liczbę stukrotnie większą. Innym znakiem pełniącym podobną funkcję jest nadkreślenie oznaczające pomnożenie przez 1000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6A32-44DB-46F5-960E-E3FA2EA7FB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905120" y="609480"/>
            <a:ext cx="7238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4000" y="609480"/>
            <a:ext cx="843912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ak zapisać systemem rzymski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iększe liczb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50920" y="227664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  =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10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30481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LVI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 6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05120" y="39625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CIV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60 4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1280" y="4952880"/>
            <a:ext cx="8208720" cy="12632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czby w pionowych kreskach zwiększają  swoją wartość  stukrot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049-F5FB-4318-8D5E-3E389AEF63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68360" y="838080"/>
            <a:ext cx="7989840" cy="14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ak zapisać jeszcze większe liczby systemem rzymski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76720" y="227664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XX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274320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28195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33920" y="281952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33920" y="281952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3124080"/>
            <a:ext cx="436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V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40000" y="396252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M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8360" y="4876920"/>
            <a:ext cx="8280360" cy="12632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czby podkreślone u góry zwiększają swoją wartość tysiąckrot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35280" y="2492280"/>
            <a:ext cx="1079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24360" y="3284640"/>
            <a:ext cx="792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38520" y="2205000"/>
            <a:ext cx="173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30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35640" y="3068640"/>
            <a:ext cx="20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505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91080" y="3870360"/>
            <a:ext cx="24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 000 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7B9-52D7-4794-B5DC-634195ACC6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rcRect l="0" t="0" r="0" b="11536"/>
          <a:stretch/>
        </p:blipFill>
        <p:spPr>
          <a:xfrm>
            <a:off x="857160" y="4429080"/>
            <a:ext cx="4033800" cy="22147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f45"/>
                </a:solidFill>
                <a:latin typeface="Arial"/>
                <a:ea typeface="Arial"/>
              </a:rPr>
              <a:t>CYFRY RZYMSKIE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24000" y="1706400"/>
          <a:ext cx="8640720" cy="2322720"/>
        </p:xfrm>
        <a:graphic>
          <a:graphicData uri="http://schemas.openxmlformats.org/drawingml/2006/table">
            <a:tbl>
              <a:tblPr/>
              <a:tblGrid>
                <a:gridCol w="1008000"/>
                <a:gridCol w="1152360"/>
                <a:gridCol w="1150920"/>
                <a:gridCol w="1081080"/>
                <a:gridCol w="1368360"/>
                <a:gridCol w="1224000"/>
                <a:gridCol w="1656000"/>
              </a:tblGrid>
              <a:tr h="116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L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7375e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4c3aa"/>
                      </a:solidFill>
                    </a:lnL>
                    <a:lnR w="18720">
                      <a:solidFill>
                        <a:srgbClr val="c4c3aa"/>
                      </a:solidFill>
                    </a:lnR>
                    <a:lnT w="18720">
                      <a:solidFill>
                        <a:srgbClr val="c4c3aa"/>
                      </a:solidFill>
                    </a:lnT>
                    <a:lnB w="18720">
                      <a:solidFill>
                        <a:srgbClr val="c4c3aa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5429160" y="4429080"/>
            <a:ext cx="2643120" cy="22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AA0-D88C-405C-AD32-03EB313632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aca z podręcznikiem -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atyka z plusem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Ćwiczenie A str 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ad. 1,2,3/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ad.5/1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ff"/>
                </a:solidFill>
                <a:latin typeface="Verdana"/>
              </a:rPr>
              <a:t>dla chętnych na kartkach: zad.6,7/1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97D-5CD8-4E3B-8207-E702A28165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124000" y="1125360"/>
            <a:ext cx="63248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ochodzi od słowa centum = 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352680"/>
            <a:ext cx="59436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pl-PL" sz="3600" spc="-1" strike="noStrike">
                <a:solidFill>
                  <a:srgbClr val="000099"/>
                </a:solidFill>
                <a:latin typeface="Arial"/>
              </a:rPr>
              <a:t>pochodzi od słowa  mille = 1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62080" y="674640"/>
            <a:ext cx="7858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18160" y="3284640"/>
            <a:ext cx="8787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59C-9E91-4BFB-B39B-B0686B5219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87280" y="765000"/>
            <a:ext cx="6858000" cy="14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Jak systemem rzymskim zapisać inne liczb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2895480"/>
            <a:ext cx="7488360" cy="222948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Wystarczy dodawać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lub odejmować znak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129-791D-4704-8B25-E8B29F940A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95280" y="404640"/>
            <a:ext cx="837072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Które liczby powstaj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z dodawania znakó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03280" y="2060640"/>
            <a:ext cx="468144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  =  (V + I)  =  V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26668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5000" y="266688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95640" y="2781360"/>
            <a:ext cx="556236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  =  (X + I)  =  X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3500280"/>
            <a:ext cx="624852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0  =  (L + X)  =  L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8360" y="4221000"/>
            <a:ext cx="609624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0  =  (C + X)  =  C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03280" y="5084640"/>
            <a:ext cx="640080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00  =  (D + C)  =  D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68360" y="5877000"/>
            <a:ext cx="548640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00  =  (M + C)  =  M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226-C09F-485B-978F-F0653C7738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39640" y="0"/>
            <a:ext cx="8083800" cy="16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Które liczby powstaj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z odejmowania  znakó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8000" y="1773360"/>
            <a:ext cx="6782040" cy="7520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  =  (V – 1)  =  I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16000" y="2565360"/>
            <a:ext cx="624852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  =  (X – I)  =  I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79640" y="3357720"/>
            <a:ext cx="6324480" cy="7520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  =  (L – X)  =  X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16000" y="4149720"/>
            <a:ext cx="6477120" cy="75204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0  =  (C – X)  =  X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4724280"/>
            <a:ext cx="5715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9640" y="4941720"/>
            <a:ext cx="6705720" cy="75204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0  =  (D – C)  =  C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16000" y="5734080"/>
            <a:ext cx="6781680" cy="752040"/>
          </a:xfrm>
          <a:prstGeom prst="rect">
            <a:avLst/>
          </a:prstGeom>
          <a:solidFill>
            <a:srgbClr val="9ac2c0"/>
          </a:solidFill>
          <a:ln w="9360">
            <a:solidFill>
              <a:srgbClr val="c4c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900  =  (M – C)  =  C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7CA1-7B78-47E3-AAFE-C8AA3F8A1A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048360" cy="56278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                     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D55-7397-42AB-BD13-C8A5D9671A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k czytamy liczby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VII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2 •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7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XIV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14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XXIX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(2 •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29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CXLV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+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14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CDXIX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=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50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+ 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+ (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0 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) = 419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D3C-D67F-4288-9DEB-1F67086D91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solidFill>
            <a:srgbClr val="bfcb4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 CC L XX VIII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(500 + 2 • 100) +(50 + 2 •10) + (5 + 3 • 1) = 778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ak czytamy liczby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55640" y="3284640"/>
            <a:ext cx="8207280" cy="947520"/>
          </a:xfrm>
          <a:prstGeom prst="rect">
            <a:avLst/>
          </a:pr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pl-PL" sz="3600" spc="-1" strike="noStrike">
                <a:solidFill>
                  <a:srgbClr val="ffffff"/>
                </a:solidFill>
                <a:latin typeface="Verdana"/>
              </a:rPr>
              <a:t>M CM L XXX IX</a:t>
            </a:r>
            <a:r>
              <a:rPr b="0" lang="pl-PL" sz="3600" spc="-1" strike="noStrike">
                <a:solidFill>
                  <a:srgbClr val="ffffff"/>
                </a:solidFill>
                <a:latin typeface="Verdana"/>
              </a:rPr>
              <a:t>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0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+ (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0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- 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) + (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5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+ 3 • 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) + (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0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 - </a:t>
            </a:r>
            <a:r>
              <a:rPr b="1" lang="pl-PL" sz="20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pl-PL" sz="2000" spc="-1" strike="noStrike">
                <a:solidFill>
                  <a:srgbClr val="ff3300"/>
                </a:solidFill>
                <a:latin typeface="Verdana"/>
              </a:rPr>
              <a:t>) =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4869000"/>
            <a:ext cx="7921440" cy="9475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M CCC L II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(2 •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000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) + (3 •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00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) +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50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+ (2 •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) = 235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F58-3304-4A09-894C-59E4043BB6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5:29:06Z</dcterms:created>
  <dc:creator>Elżbieta Salwa</dc:creator>
  <dc:description/>
  <dc:language>en-US</dc:language>
  <cp:lastModifiedBy>Matematyka</cp:lastModifiedBy>
  <dcterms:modified xsi:type="dcterms:W3CDTF">2014-01-03T15:03:54Z</dcterms:modified>
  <cp:revision>99</cp:revision>
  <dc:subject>prezentacja z matematyki dla klas 4 - 6 szkoły podstawowej</dc:subject>
  <dc:title>Prezentacja programu PowerPoint</dc:title>
</cp:coreProperties>
</file>